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DA7C-4D20-43E5-A9FE-DC049D7B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8DDB-7FB7-46E0-A7B8-6C7C4EE6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F9E8-E9C8-48FD-8268-DEB2D14A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BD73-18BF-4E96-9F16-B1E11B47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311A-891B-4447-9C18-94CF5C25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E5B3-6BD3-4EDC-AE55-91359AE7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969E-0160-4806-A79E-1A869601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76B3-4032-4886-BD2E-55749829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77F6-2035-4FAF-9EFC-F22BFC5E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FB50-EE8C-4160-9D10-9632FDC2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4481-0923-4CE3-8360-1277DDAC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40ED-659D-41A7-9A95-1CFCC0E4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371D-D2C0-4417-9BF5-1A476C0E2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Qq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Vv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Ff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Zz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Hh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Kk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Jj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Ll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Arial"/>
              </a:rPr>
              <a:t>little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Ww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3:12:04Z</dcterms:created>
  <dc:creator> </dc:creator>
  <dc:description/>
  <dc:language>en-US</dc:language>
  <cp:lastModifiedBy>Help Desk</cp:lastModifiedBy>
  <dcterms:modified xsi:type="dcterms:W3CDTF">2009-09-04T22:04:33Z</dcterms:modified>
  <cp:revision>20</cp:revision>
  <dc:subject/>
  <dc:title>Slide 1</dc:title>
</cp:coreProperties>
</file>